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D2F-7007-4A7B-BB8E-5E5096C9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14C-ACBC-4B86-A83B-D43D6369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02F-B236-4169-B129-C0A4C800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40F-51B6-492E-B9A8-4B041757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BE4-E205-446C-BB7E-FBB98CC9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4E1-82C0-47FF-94F2-AA6E6D18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12E-B409-41D7-B53E-A7B139D2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84B-888C-4AE8-B94D-0AE70F4B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A89-6361-4F21-8A3D-1C2C725A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F091-8DCD-415E-B1C2-889345E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ACC-D05E-4825-99E4-883FCDC2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563-62DA-43E7-A429-0C85A41F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8B34-B0AE-4F5C-949C-70982DB45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1.bp.blogspot.com/-mebP8Cb9bcQ/TZBz0F_fwOI/AAAAAAAAAIw/-nCG_fnDTNE/s640/life+cycle.jpg"/>
          <p:cNvPicPr/>
          <p:nvPr/>
        </p:nvPicPr>
        <p:blipFill>
          <a:blip r:embed="rId1"/>
          <a:stretch/>
        </p:blipFill>
        <p:spPr>
          <a:xfrm>
            <a:off x="246240" y="1758960"/>
            <a:ext cx="4917960" cy="3794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519360" y="62064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ELLING #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825640" y="4870440"/>
            <a:ext cx="19735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93600" y="5048280"/>
            <a:ext cx="412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organism Type:  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:  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http://www.78steps.com/plasma-membrane/images/3342_807_1234-dikaryotic.jpg"/>
          <p:cNvPicPr/>
          <p:nvPr/>
        </p:nvPicPr>
        <p:blipFill>
          <a:blip r:embed="rId2"/>
          <a:stretch/>
        </p:blipFill>
        <p:spPr>
          <a:xfrm>
            <a:off x="4799160" y="2252520"/>
            <a:ext cx="4251240" cy="25066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799160" y="5138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organism Type:  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:  __________________________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480200" y="631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28200" y="8892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BI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937680" y="936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biology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719680" y="-3240"/>
            <a:ext cx="303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me: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e: 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bio1152.nicerweb.net/Locked/media/ch19/19_06LambdaLyticLysoCycle-L.jpg"/>
          <p:cNvPicPr/>
          <p:nvPr/>
        </p:nvPicPr>
        <p:blipFill>
          <a:blip r:embed="rId1"/>
          <a:stretch/>
        </p:blipFill>
        <p:spPr>
          <a:xfrm>
            <a:off x="304920" y="923760"/>
            <a:ext cx="8480160" cy="439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2825640" y="3352680"/>
            <a:ext cx="60804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178600" y="3352680"/>
            <a:ext cx="911160" cy="152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433680" y="3808440"/>
            <a:ext cx="682560" cy="37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361040" y="3808440"/>
            <a:ext cx="969840" cy="37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980800" y="297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5486040" y="2973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2515680" y="130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4847760" y="464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7"/>
          <p:cNvSpPr/>
          <p:nvPr/>
        </p:nvSpPr>
        <p:spPr>
          <a:xfrm>
            <a:off x="7079760" y="402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1310760" y="401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2066760" y="4827600"/>
            <a:ext cx="212580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5178600" y="4827600"/>
            <a:ext cx="205416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3578040" y="43488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BELLING #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6469200" y="3505320"/>
            <a:ext cx="2352600" cy="49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4650120" y="5934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615600" y="6660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BI3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3869280" y="666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biology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5938920" y="74520"/>
            <a:ext cx="250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ame: 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e: 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7:28:29Z</dcterms:created>
  <dc:creator>Jason Fisher</dc:creator>
  <dc:description/>
  <dc:language>en-US</dc:language>
  <cp:lastModifiedBy>Jason Fisher</cp:lastModifiedBy>
  <cp:lastPrinted>2012-03-30T08:04:07Z</cp:lastPrinted>
  <dcterms:modified xsi:type="dcterms:W3CDTF">2012-03-30T09:04:01Z</dcterms:modified>
  <cp:revision>28</cp:revision>
  <dc:subject/>
  <dc:title>PowerPoint Presentation</dc:title>
</cp:coreProperties>
</file>